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DE5-B029-4B80-8497-DCD22A7F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FD4-B5B2-4436-AF03-19EB0B9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104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E2D-961A-4CD8-9FF3-C1D9B086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018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465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018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1465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710-1DC5-452C-9843-6146BA44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A33-CD44-4792-AA91-51073A03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C21-7F9C-4CAF-9FA8-01297E2F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5C0-56A0-4143-BAAA-523E8EB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275-7B11-4723-B13E-0CAA2840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37B-B7AC-4F5A-B09E-5279A63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915-015A-4F32-BB43-C65E1C7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040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2D4-5D8D-4E1E-B388-4330E8A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040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763-0F70-42B8-A8AB-51A4B87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5781-E3A9-4719-B564-61D9C155E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4" descr="j0299587"/>
          <p:cNvPicPr/>
          <p:nvPr/>
        </p:nvPicPr>
        <p:blipFill>
          <a:blip r:embed="rId3"/>
          <a:stretch/>
        </p:blipFill>
        <p:spPr>
          <a:xfrm>
            <a:off x="7391520" y="510840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5" descr="j0299587"/>
          <p:cNvPicPr/>
          <p:nvPr/>
        </p:nvPicPr>
        <p:blipFill>
          <a:blip r:embed="rId4"/>
          <a:stretch/>
        </p:blipFill>
        <p:spPr>
          <a:xfrm>
            <a:off x="7391520" y="342900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99587"/>
          <p:cNvPicPr/>
          <p:nvPr/>
        </p:nvPicPr>
        <p:blipFill>
          <a:blip r:embed="rId5"/>
          <a:stretch/>
        </p:blipFill>
        <p:spPr>
          <a:xfrm>
            <a:off x="7391520" y="1752480"/>
            <a:ext cx="1752480" cy="17496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7" descr="j0299587"/>
          <p:cNvPicPr/>
          <p:nvPr/>
        </p:nvPicPr>
        <p:blipFill>
          <a:blip r:embed="rId6"/>
          <a:stretch/>
        </p:blipFill>
        <p:spPr>
          <a:xfrm>
            <a:off x="7391520" y="0"/>
            <a:ext cx="1752480" cy="17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670572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oetry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you paint a picture or imagine what is happening or what the poet is fee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The children were nestled all snug in their bed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wo things using the words like or 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cheeks were like r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nose like a cher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rison of two things WITHOUT using “as or li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ouds are fluffy pi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ing an animal or an object human 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glowed with happ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groups of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find examples of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ry is literature that uses a few words to tell about ideas, feelings and paints a picture in the readers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ms may or may  not rh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eant to be read alou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- the way it looks on the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-  a group of words together on one line of the po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ZA - a group of lines arrange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ight Before Christ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as the night before Christ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through the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reature was stir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a mou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8080" y="4572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5105520" y="3886200"/>
            <a:ext cx="380880" cy="2209680"/>
          </a:xfrm>
          <a:custGeom>
            <a:avLst/>
            <a:gdLst>
              <a:gd name="textAreaLeft" fmla="*/ 0 w 380880"/>
              <a:gd name="textAreaRight" fmla="*/ 137520 w 3808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f poetry that use one type of sound related characte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s that are alike at the end of words, such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rhyming words- the words do not exactly rh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ry leaves that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ld hurric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y meet with an obstac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yth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at of the po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made up patterns of strong and weak syll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RHYME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553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ght Before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as the night before christm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ll through the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creature was stir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a 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19920" y="2362320"/>
            <a:ext cx="114300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ative Language and other poetic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and phrases that help the reader picture things in a new w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apid than ea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21:31:07Z</dcterms:created>
  <dc:creator>.</dc:creator>
  <dc:description/>
  <dc:language>en-US</dc:language>
  <cp:lastModifiedBy>Lorettem</cp:lastModifiedBy>
  <dcterms:modified xsi:type="dcterms:W3CDTF">2015-11-21T18:37:48Z</dcterms:modified>
  <cp:revision>9</cp:revision>
  <dc:subject/>
  <dc:title>Poetry</dc:title>
</cp:coreProperties>
</file>